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63B-F63F-48E9-891C-46DE3BDE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DD6-D524-4B4D-B55F-242FE361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10F-1E24-40FA-B3D1-8F92C0AC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BC8-7A7E-4812-BCD4-7CB74BA6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5A3-558C-4FF3-A142-1115B8F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AEC-2DC8-4C45-A9AA-B99563FE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7CD-C069-494A-A9E3-772D818E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CA8-71B6-420F-A0E7-C156AC96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190-4591-4F6F-AA66-4B454B08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416-6DC6-4525-AC34-AC7E8971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060-6973-447F-81D5-DC8985F8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613-E994-4713-93B9-A8348FEF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38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5000"/>
            <a:ext cx="235116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5000"/>
            <a:ext cx="319104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8695-80B5-4F37-B4EB-2DE0035034CB}" type="slidenum">
              <a:rPr b="0" lang="en-A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ybersalt.org/cleanlaugh/images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ybersalt.org/cleanlaugh/image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8920" y="1798200"/>
            <a:ext cx="86374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32080">
              <a:spcBef>
                <a:spcPts val="1001"/>
              </a:spcBef>
              <a:spcAft>
                <a:spcPts val="2001"/>
              </a:spcAft>
              <a:buSzPct val="163511"/>
              <a:buBlip>
                <a:blip r:embed="rId1"/>
              </a:buBlip>
              <a:tabLst>
                <a:tab algn="l" pos="407880"/>
                <a:tab algn="l" pos="1322280"/>
                <a:tab algn="l" pos="2236680"/>
                <a:tab algn="l" pos="3147840"/>
                <a:tab algn="l" pos="4065480"/>
                <a:tab algn="l" pos="49752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signated person should speak to the topic for 60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2440" indent="-532080">
              <a:spcBef>
                <a:spcPts val="1001"/>
              </a:spcBef>
              <a:spcAft>
                <a:spcPts val="2001"/>
              </a:spcAft>
              <a:buSzPct val="163511"/>
              <a:buBlip>
                <a:blip r:embed="rId2"/>
              </a:buBlip>
              <a:tabLst>
                <a:tab algn="l" pos="407880"/>
                <a:tab algn="l" pos="1322280"/>
                <a:tab algn="l" pos="2236680"/>
                <a:tab algn="l" pos="3147840"/>
                <a:tab algn="l" pos="4065480"/>
                <a:tab algn="l" pos="49752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others just listen - you may ask clarifying questions if there i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2440" indent="-532080">
              <a:spcBef>
                <a:spcPts val="1001"/>
              </a:spcBef>
              <a:spcAft>
                <a:spcPts val="2001"/>
              </a:spcAft>
              <a:buSzPct val="163511"/>
              <a:buBlip>
                <a:blip r:embed="rId3"/>
              </a:buBlip>
              <a:tabLst>
                <a:tab algn="l" pos="407880"/>
                <a:tab algn="l" pos="1322280"/>
                <a:tab algn="l" pos="2236680"/>
                <a:tab algn="l" pos="3147840"/>
                <a:tab algn="l" pos="4065480"/>
                <a:tab algn="l" pos="49752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en time is up please finish and move onto the next top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0" y="358920"/>
            <a:ext cx="100774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7186"/>
              </a:lnSpc>
              <a:tabLst>
                <a:tab algn="l" pos="0"/>
                <a:tab algn="l" pos="90360"/>
                <a:tab algn="l" pos="1004760"/>
                <a:tab algn="l" pos="1919160"/>
                <a:tab algn="l" pos="2835360"/>
                <a:tab algn="l" pos="3746520"/>
                <a:tab algn="l" pos="466236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6000" spc="-1" strike="noStrike">
                <a:solidFill>
                  <a:srgbClr val="003399"/>
                </a:solidFill>
                <a:latin typeface="Arial"/>
              </a:rPr>
              <a:t>Triads - Talking points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pider"/>
          <p:cNvPicPr/>
          <p:nvPr/>
        </p:nvPicPr>
        <p:blipFill>
          <a:blip r:embed="rId1"/>
          <a:stretch/>
        </p:blipFill>
        <p:spPr>
          <a:xfrm>
            <a:off x="3417840" y="2806560"/>
            <a:ext cx="323856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58920" y="358920"/>
            <a:ext cx="93567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1" i="1" lang="en-A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AU" sz="4400" spc="-1" strike="noStrike">
                <a:solidFill>
                  <a:srgbClr val="0000ff"/>
                </a:solidFill>
                <a:latin typeface="Arial"/>
              </a:rPr>
              <a:t>What information would you like to have to help you utilise the internet in your teaching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eletelife"/>
          <p:cNvPicPr/>
          <p:nvPr/>
        </p:nvPicPr>
        <p:blipFill>
          <a:blip r:embed="rId1"/>
          <a:stretch/>
        </p:blipFill>
        <p:spPr>
          <a:xfrm>
            <a:off x="719280" y="3598920"/>
            <a:ext cx="8637480" cy="3127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19280" y="6948360"/>
            <a:ext cx="863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ybersalt.org/cleanlaugh/imag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58920" y="358920"/>
            <a:ext cx="935676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ts val="5400"/>
              </a:lnSpc>
              <a:spcBef>
                <a:spcPts val="1100"/>
              </a:spcBef>
              <a:spcAft>
                <a:spcPts val="2999"/>
              </a:spcAft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8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What is something you have done using the internet, or that you have heard of, which has been successful for student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compaqblackout"/>
          <p:cNvPicPr/>
          <p:nvPr/>
        </p:nvPicPr>
        <p:blipFill>
          <a:blip r:embed="rId1"/>
          <a:stretch/>
        </p:blipFill>
        <p:spPr>
          <a:xfrm>
            <a:off x="1798560" y="2160720"/>
            <a:ext cx="6478560" cy="48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6"/>
          <p:cNvSpPr/>
          <p:nvPr/>
        </p:nvSpPr>
        <p:spPr>
          <a:xfrm>
            <a:off x="365040" y="361800"/>
            <a:ext cx="9390240" cy="691992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Times New Roman"/>
              </a:rPr>
              <a:t>How has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19280" y="7016760"/>
            <a:ext cx="863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ybersalt.org/cleanlaugh/images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58920" y="358920"/>
            <a:ext cx="9356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9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his course has changed my thinking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63440" y="1224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Bad Day 2"/>
          <p:cNvPicPr/>
          <p:nvPr/>
        </p:nvPicPr>
        <p:blipFill>
          <a:blip r:embed="rId1"/>
          <a:stretch/>
        </p:blipFill>
        <p:spPr>
          <a:xfrm>
            <a:off x="2338560" y="2878200"/>
            <a:ext cx="539892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58920" y="358920"/>
            <a:ext cx="935676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just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One really positive thing that has happened to me in the last month is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rave Cat"/>
          <p:cNvPicPr/>
          <p:nvPr/>
        </p:nvPicPr>
        <p:blipFill>
          <a:blip r:embed="rId1"/>
          <a:stretch/>
        </p:blipFill>
        <p:spPr>
          <a:xfrm>
            <a:off x="1978200" y="2516040"/>
            <a:ext cx="6118200" cy="41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Rectangle 7"/>
          <p:cNvSpPr/>
          <p:nvPr/>
        </p:nvSpPr>
        <p:spPr>
          <a:xfrm>
            <a:off x="358920" y="358920"/>
            <a:ext cx="935676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 algn="just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As an educator I think my strengths are 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iggy"/>
          <p:cNvPicPr/>
          <p:nvPr/>
        </p:nvPicPr>
        <p:blipFill>
          <a:blip r:embed="rId1"/>
          <a:stretch/>
        </p:blipFill>
        <p:spPr>
          <a:xfrm>
            <a:off x="1978200" y="1619280"/>
            <a:ext cx="611820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58920" y="358920"/>
            <a:ext cx="9356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3.  I learn best when …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6000" spc="-1" strike="noStrike">
                <a:solidFill>
                  <a:srgbClr val="003399"/>
                </a:solidFill>
                <a:latin typeface="Arial"/>
              </a:rPr>
              <a:t>Change pla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920" y="1798560"/>
            <a:ext cx="9356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- move one place 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B - stay where you a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C - move one place anti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58920" y="358920"/>
            <a:ext cx="9356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alk briefly about an experience (good or bad) you have had with computers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omputer Rage.mpe" descr=""/>
          <p:cNvPicPr/>
          <p:nvPr/>
        </p:nvPicPr>
        <p:blipFill>
          <a:blip r:embed="rId1"/>
          <a:stretch/>
        </p:blipFill>
        <p:spPr>
          <a:xfrm>
            <a:off x="2338560" y="2878200"/>
            <a:ext cx="5398920" cy="40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95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619280" y="2160720"/>
            <a:ext cx="6837480" cy="48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58920" y="358920"/>
            <a:ext cx="9356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he best thing about using computers at my school is 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nail and Tortoise"/>
          <p:cNvPicPr/>
          <p:nvPr/>
        </p:nvPicPr>
        <p:blipFill>
          <a:blip r:embed="rId1"/>
          <a:stretch/>
        </p:blipFill>
        <p:spPr>
          <a:xfrm>
            <a:off x="2338560" y="2878200"/>
            <a:ext cx="5398920" cy="42177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58920" y="358920"/>
            <a:ext cx="93567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723960">
              <a:lnSpc>
                <a:spcPct val="100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One thing about using the internet at my school which I would really like to change is..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53964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6000" spc="-1" strike="noStrike">
                <a:solidFill>
                  <a:srgbClr val="003399"/>
                </a:solidFill>
                <a:latin typeface="Arial"/>
              </a:rPr>
              <a:t>Change pla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81080" y="177840"/>
            <a:ext cx="9715320" cy="7199280"/>
          </a:xfrm>
          <a:prstGeom prst="rect">
            <a:avLst/>
          </a:prstGeom>
          <a:noFill/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58920" y="1798560"/>
            <a:ext cx="93567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- move one place 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B - stay where you a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199"/>
              </a:spcBef>
              <a:tabLst>
                <a:tab algn="l" pos="0"/>
                <a:tab algn="l" pos="9907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C - move one place anticlockwis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XP SOE 1.1</cp:lastModifiedBy>
  <dcterms:modified xsi:type="dcterms:W3CDTF">2008-08-24T12:53:24Z</dcterms:modified>
  <cp:revision>46</cp:revision>
  <dc:subject/>
  <dc:title>Welcome</dc:title>
</cp:coreProperties>
</file>